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0F86-E334-47C3-9BA4-8DEB8BAC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6F88-4751-47C6-94E1-7CD508F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B903-241B-4658-9950-7C22C4E4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5BBA-A5D0-4ECF-B7A4-6ED3BDD3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4850-53D0-4BCC-AE5A-1592E7B6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FC5E-D4F3-4AF0-9AA6-C7048140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0EC1-225F-4A4D-9165-F30666A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9691-18B0-4132-9003-BED28B7A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0E8-6B21-4DEC-9320-E21C94F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613D-34FC-463F-9114-96ECEE41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EB39-DA48-4A70-B8FF-782C4F1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08C1-1E64-4E45-BFE9-FAF8B7A9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279-F29C-4226-B957-A934549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AE84-F325-4F8D-B62F-D36D436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2F8-C3BA-42DE-BD90-4AC801F2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1F1A-8019-4382-B507-A967F49C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1CE6-DD45-4DED-9138-9494383E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1104-9DC8-4A28-8787-0E149FA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E53E-D899-41BD-B7F8-D33349D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DA3D-C450-4B7A-A45C-AB312B8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8100-7C8E-4214-9D3D-F8343EB0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CC3E-FF82-4E4E-8959-A6CD288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CF71-03FF-4A84-91A9-6DAF0CF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C776-6A77-459E-ACA3-59E347E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0053-C6CF-421B-A8A4-419ED43A5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FAF0-408B-41EC-A2D9-300B84B30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hyperlink" Target="mailto:s@cdu.edu.u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1828800"/>
            <a:ext cx="6435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НФОРМАЦІЙНЕ СЕРЕДОВИЩЕ СИСТЕМИ УПРАВЛІННЯ НАВЧАЛЬНИМ ПРОЦЕСОМ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Н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280" y="476280"/>
            <a:ext cx="597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еркаський державний технологічний універс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616572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7d"/>
                </a:solidFill>
                <a:latin typeface="Arial"/>
              </a:rPr>
              <a:t>м. Черкаси, 10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09</a:t>
            </a:r>
            <a:r>
              <a:rPr b="1" lang="uk-UA" sz="2400" spc="-1" strike="noStrike">
                <a:solidFill>
                  <a:srgbClr val="00007d"/>
                </a:solidFill>
                <a:latin typeface="Arial"/>
              </a:rPr>
              <a:t>.200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24280"/>
            <a:ext cx="547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Факультет інформаційних технологій і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4160" cy="2343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38880" y="4221000"/>
            <a:ext cx="190512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501336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нформаційний об’єк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ІО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ого середовища ВНЗ – набір даних і знань, що сприймається як цілісний інформаційний продукт чи ресурс системи управління ВН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6425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424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1337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ип інформаційного об’єкт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пис структури інформаційного об’єкту (опис структур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яка міститься в інформаційному об’єкт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раметри інформаційного об’єкт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ові інформаційного об’єкту, формування значення кожної з яких може виконуватись незале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аповнення параметрів інформаційного об’є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                                                  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множина даних, яка відповідає значенням параметрів інформаційного об’єкту (є означенням параметрів інформаційного обєкту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700360" y="3548160"/>
                <a:ext cx="28796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71640" y="5013360"/>
                <a:ext cx="2519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42100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ж інформаційними об’єктами інформаційного середовища ВНЗ існують певні зв’язки, які надалі будемо називати інформаційними функці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Інформаційна функці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алізовані в процесах інформаційної взаємодії відношення між інформаційними об’єк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312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08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нформаційна функці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є собою інформаційний процес з перетворення даних і знань, які належать параметрам одних ІО, в параметри іншого І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06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ті інформаційна функція інформаційного середовища ВНЗ – сукупність процесів формування інформаційних об’єкті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411280" y="3068640"/>
                <a:ext cx="4464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8360" y="3789360"/>
            <a:ext cx="8207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 ІФ можна виділи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ункції-прототип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як загальне представлення дій з переробки даних і знань) – підмножини функцій одного тип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ункції-екземпляр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процеси опрацювання даних і знань, що представлені заданими параметрами сформованих інформаційних об‘єктів) – конкрентна функція, що входить до функції-прототи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580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ункція-екземпля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835280" y="1989000"/>
                <a:ext cx="54403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337040" y="3141720"/>
            <a:ext cx="59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ункція-прототип, якщ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27280" y="3573360"/>
                <a:ext cx="2521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53920" y="4365720"/>
                <a:ext cx="6813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l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l</m:t>
                        </m:r>
                      </m:sub>
                    </m:sSub>
                    <m:r>
                      <m:t xml:space="preserve">⊆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l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521964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х, щ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19640" y="5013360"/>
                <a:ext cx="1766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332000" y="501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вирішення поставленої наукової задачі необхі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значитися із структурою та наповненням інформаційного середовища ВН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ити ефективну технологію формування о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ктів  інформаційного середовища ВНЗ в процесі автоматизованого навчання, контролю і оцінювання навчальних досягнень студ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труктура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інформаційному середовищі ВНЗ, відповідно до цілей його діяльності можна виділ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формаційне середовище системи управління навчанн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формаційне середовище системи управління В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труктура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ому середовищі системи управління навчання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жна виділ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ційне середовище системи управління навчальним процес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ційне середовище процесу навч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ційне середовище суб‘єктів навч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7d"/>
                </a:solidFill>
                <a:latin typeface="Arial"/>
              </a:rPr>
              <a:t>Пит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становка пробл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формаційне середовище В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хема наповнення інформаційного середовища В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формаційні об‘єкти в управлінні навчальним проце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2207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476360" y="476280"/>
            <a:ext cx="6265800" cy="5898960"/>
            <a:chOff x="1476360" y="476280"/>
            <a:chExt cx="6265800" cy="5898960"/>
          </a:xfrm>
        </p:grpSpPr>
        <p:sp>
          <p:nvSpPr>
            <p:cNvPr id="172" name=""/>
            <p:cNvSpPr/>
            <p:nvPr/>
          </p:nvSpPr>
          <p:spPr>
            <a:xfrm>
              <a:off x="1476360" y="476280"/>
              <a:ext cx="6265800" cy="58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2400" y="3183840"/>
              <a:ext cx="5337720" cy="62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системи управління навчальним процес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9760" y="2185200"/>
              <a:ext cx="398988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процесу навч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51640" y="1085760"/>
              <a:ext cx="301860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суб‘єктів навч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7480" y="4797720"/>
              <a:ext cx="3570840" cy="49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системи управління ВН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553760" y="4016520"/>
              <a:ext cx="6100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2160" y="2822400"/>
              <a:ext cx="61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93680" y="1829880"/>
              <a:ext cx="522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24120" y="371016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21320" y="373212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24120" y="248076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21320" y="249156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24120" y="1523160"/>
              <a:ext cx="0" cy="6613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21320" y="1609200"/>
              <a:ext cx="0" cy="6613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042920" y="63086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1. Структура інформаційного середовища В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труктура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формаційним середовищем системи управління навчальним процесом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емо розуміти множину інформаційних об’єктів та інформаційних функцій, які реалізуються в навчальному процесі в ВН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формаційним середовищем процесу навча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будемо розуміти підмножину множини інформаційних об’єктів та інформаційних функцій системи управління навчальним процесом, які використовуються в процесі безпосереднього формування знань, вмінь і навичок студен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формаційним середовищем суб’єкту навча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будемо розуміти інтелектуальний апарат студента, в основі якого лежить набір інформаційних об’єктів, які відображають, в тому числі і необхідні для спеціаліста знання, вміння та навички професійної діяльності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Технологія наповнення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знань, вмінь і навичок студентів є критерієм ефективності навчання, і відповідно, ефективності технології наповнення інформаційного середовища системи управління навчан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ж ефективної технології наповнення інформаційного середовища може базуватися лише на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побудові адекватної реальній структурі математичної моделі інформаційного середовища 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хема наповнення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одячи з цілей діяльності ВНЗ можна сказати, що наповнення інформаційного середовища ВНЗ повинно бути таким, щоб цілеспрямовано і з найменшими витратами формувати такі зміни в інтелектуальному апараті суб’єкту навчання, які забезпечать підготовку фахівця з необхідним рівнем знань, вмінь і навичок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-66600" y="549360"/>
          <a:ext cx="92106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600" y="549360"/>
                    <a:ext cx="92106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-181080" y="476280"/>
            <a:ext cx="6080400" cy="4852440"/>
            <a:chOff x="-181080" y="476280"/>
            <a:chExt cx="6080400" cy="4852440"/>
          </a:xfrm>
        </p:grpSpPr>
        <p:sp>
          <p:nvSpPr>
            <p:cNvPr id="196" name=""/>
            <p:cNvSpPr/>
            <p:nvPr/>
          </p:nvSpPr>
          <p:spPr>
            <a:xfrm>
              <a:off x="-181080" y="476280"/>
              <a:ext cx="193320" cy="37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2280" y="4930920"/>
              <a:ext cx="2570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5840" y="4384800"/>
              <a:ext cx="253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04000" y="5167080"/>
              <a:ext cx="23796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3280" y="4854600"/>
              <a:ext cx="31428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7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9280" y="6381720"/>
            <a:ext cx="8964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2. Схема наповнення об’єктів інформаційного середовища системи управління навчальним процесом ВН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формаційні об‘єкти в управлінні навчальним проц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26920" y="2637000"/>
          <a:ext cx="7067880" cy="4027320"/>
        </p:xfrm>
        <a:graphic>
          <a:graphicData uri="http://schemas.openxmlformats.org/drawingml/2006/table">
            <a:tbl>
              <a:tblPr/>
              <a:tblGrid>
                <a:gridCol w="706788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ньо-кваліфікаційна характеристика – U</a:t>
                      </a:r>
                      <a:r>
                        <a:rPr b="1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ня галузь 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ям підготовки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ньо-кваліфікаційний рівень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ість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іфікація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ен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б’єкт діяльності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мативн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ермін навчання (денна форма)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економічної діяльності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95280" y="191628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кти інформаційного середовища системи управління навчальним процес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84360" y="1628640"/>
          <a:ext cx="20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20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505320" y="2438280"/>
            <a:ext cx="1199880" cy="8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"/>
          <p:cNvSpPr/>
          <p:nvPr/>
        </p:nvSpPr>
        <p:spPr>
          <a:xfrm>
            <a:off x="4952880" y="2590920"/>
            <a:ext cx="3200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Times New Roman"/>
              </a:rPr>
              <a:t>8(04</a:t>
            </a:r>
            <a:r>
              <a:rPr b="1" lang="uk-UA" sz="2800" spc="-1" strike="noStrike">
                <a:solidFill>
                  <a:srgbClr val="00007d"/>
                </a:solidFill>
                <a:latin typeface="Times New Roman"/>
              </a:rPr>
              <a:t>72</a:t>
            </a:r>
            <a:r>
              <a:rPr b="1" lang="en-GB" sz="2800" spc="-1" strike="noStrike">
                <a:solidFill>
                  <a:srgbClr val="00007d"/>
                </a:solidFill>
                <a:latin typeface="Times New Roman"/>
              </a:rPr>
              <a:t>) -</a:t>
            </a:r>
            <a:r>
              <a:rPr b="1" lang="uk-UA" sz="2800" spc="-1" strike="noStrike">
                <a:solidFill>
                  <a:srgbClr val="00007d"/>
                </a:solidFill>
                <a:latin typeface="Times New Roman"/>
              </a:rPr>
              <a:t>73-02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3933720"/>
            <a:ext cx="4010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Times New Roman"/>
              </a:rPr>
              <a:t>tryusyv</a:t>
            </a:r>
            <a:r>
              <a:rPr b="0" lang="en-GB" sz="2800" spc="-1" strike="noStrike" u="sng">
                <a:solidFill>
                  <a:srgbClr val="666699"/>
                </a:solidFill>
                <a:uFillTx/>
                <a:latin typeface="Times New Roman"/>
                <a:hlinkClick r:id="rId4"/>
              </a:rPr>
              <a:t>@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Times New Roman"/>
              </a:rPr>
              <a:t>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5373720"/>
            <a:ext cx="571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e062a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620640"/>
            <a:ext cx="671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Запитання і відповід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ково-методологічною основою створення ІАС управління ВНЗ 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истемний підхі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етоди моделю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Концентрованим проявом такого підходу 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истемні модел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стемна модел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являє собою складну багаторівневу структуру, кожен рівень якої є визначеним етапом зображення системи, виражений та зафіксований мовою даного рі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рівні системної модел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ці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задач (методі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алгоритмів (технологі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організаційно-технічних засобів та процесів, що відбуваються в систем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НЗ являє собою досить складну організаційно-технічну систему, що повинна досягти в процесі свого функціонування двох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цілей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Забезпечення підготовки фахівців з вищою освітою, наукових кадрі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проведення наукових досліджень та ефективного використання наукового та загальнокультурного потенціалу ВНЗ відповідно до соціально-економічних запитів держав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Забезпечення життєдіяльності системи в процесі досягнення першої із цілей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вищення ефективності діяльності ВНЗ, як складної системи, проектування нових і удосконалення діючих систем управління ВНЗ в сучасних умовах повинні здійснюватися на основі системного підходу  і передбачати, зокр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лювання основних принципів управління В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ення функцій управління відповідно до основних стратегічних цілей і задач В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будову ефективної організаційної структури В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нових інформаційних технологій в системі управління навчальним процесом ВН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аукова задача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лягає в створенні системи автоматизованого навчання, контролю і оцінювання навчальних досягнень студентів, яка б надавала можливість не лише навчатися студентам у процесі самостійної роботи з використанням ІКТ, контролювати здобуті знання, вміння і навички, забезпечувати зворотній зв’язок викладача зі студентом через інформаційну базу системи, але й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безпечувати вирішення завдань з управління навчальним процесом у ВНЗ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нформаційне середовище ВН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системи управління ВНЗ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ямовано на отримання, опрацювання та використання інформаційних ресурсів для досягнення цілей діяльності ВНЗ. В інтегрованій системі управління ВНЗ можна виділити дві складов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а управління навчанням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процесно-орієнтована), що забезпечує досягнення цілей підготовки фахівців з вищою осві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а управління ВНЗ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орієнтована на організацію), що забезпечує діяльність ВНЗ як організаційно-технічної сис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емо вважати, що всі необхідні для системи управління ВНЗ інформаційні ресурси містяться в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ому середовищі 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нформаційним середовищем ВНЗ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емо розуміти сукупніс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их об’єк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ІО) та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их функці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ІФ), необхідних для досягнення цілей діяльності ВН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49:35Z</dcterms:created>
  <dc:creator>User</dc:creator>
  <dc:description/>
  <dc:language>en-US</dc:language>
  <cp:lastModifiedBy>User</cp:lastModifiedBy>
  <dcterms:modified xsi:type="dcterms:W3CDTF">2009-09-10T10:42:19Z</dcterms:modified>
  <cp:revision>79</cp:revision>
  <dc:subject/>
  <dc:title>ІНФОРМАЦІЙНО-АНАЛІТИЧНА СИСТЕМА УПРАВЛІННЯ ВНЗ ЯК СКЛАДОВА ЦИФРОВОГО УНІВЕРСИТЕТУ </dc:title>
</cp:coreProperties>
</file>